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B582-58D3-4501-B59D-35E70720B3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4CE2-3A18-4386-8644-62D26A0C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E1EE-95E4-4EFD-9218-6F039B67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645F-64FE-4534-B8B5-C5928245E0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1545-84FA-4EA1-A4D2-D82976CA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3805-7BFA-451E-8035-CB4F1594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F997-35FB-45C4-9F52-AC81E0EA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A721-CEBD-48D8-9377-AAE9FBC6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8177-B98B-4F6D-89FA-1B6704B8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D64A-A764-400D-98A7-78EDC278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BCB3-ED30-4826-BC84-032A723F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A244-43B4-478E-B662-DC8B57F7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94AD-3A7D-495C-96C9-713679FDB69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7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九节   截肢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长度包括骨和软组织的测量。残肢的长度与假肢的选择装配密切关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测量是从胫骨平台内侧至残端，理想长度不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长越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测量是从坐骨结节至残端，理想长度至少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健侧相比计算出假膝关节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测量是从肩峰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测量是从尺骨鹰嘴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度 对截肢残端评定关节活动范围。如测量肩关节有无自由的屈曲、伸展、内旋、外旋角度；测量髋关节的屈伸、内收、外展、内旋、外旋角度，膝关节的屈伸角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检查 检查全身及残肢的肌力，尤其对维持站立和行走的主要肌群更应注意。如肌力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，不宜装配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情况 观察有无神经瘤及其大小、所在部位、疼痛程度等。必要时，应手术处理 后，才可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假肢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接受腔适应情况  接受腔是指假肢上用于容纳残肢、传递残肢与假肢间的作用力、连接残肢与假肢的腔体部件。评定包括接受腔的松紧是否适宜，是否全面接触、全面承重，有无压迫、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悬吊情况观察是否有上下窜动即出现唧筒现象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piston action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可通过站立位残肢负重与不负重时拍摄残肢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，测量残端皮肤与接受腔底部的距离变化来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对线情况评定生理力线是否正常，站立时有无身体向前或向后倾倒的感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穿戴假肢后残肢情况观察 皮肤有无红肿、硬结、破溃、皮炎及疼痛，残端与接受腔接触是否良好，有无腔内负压所造成的局部肿胀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态情况 步态与截肢平面、残肢状况、假肢种类、装配技术、患者年龄、康复训练、患者的心理素质等有着直接的关系。当其他条件都大致相同时，一般截肢平面越高，步态越差。应观察行走中的各种异常步态，分析产生的原因，予以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肢假肢悬吊带与操纵索系统情况 应检查悬吊带与操纵索的安装是否合适，开闭假手时所需要的拉力是否合适，捏手和握手的力量是否满意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手功能情况 检查假手的开闭功能、协调性、灵活性，尤其是日常生活活动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肢假肢日常生活活动能力：对于一侧假手应观察其辅助正常手动作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下肢假肢的步态评定：一般应注意观察步行过程中出现的异常步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行走能力评定：一般应评定行走的距离、上下阶梯、过障碍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假肢部件及整体质量进行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康复：仅略有不适感，能完全自理生活恢复原工作，照常参加社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康复：仍有轻微功能障碍，生活能自理，但不能恢复原工作，需改换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自理：生活能完全自理，但不能参加正常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自理：生活仅能部分自理，相当部分需依靠他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仅外观美容改善，功能无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患者树立独立生活、回归社会的信心；采用各种治疗措施增强肌力，增加关节的活动范围，改善残肢状况，以便操纵、控制假肢，使其发挥更好的代偿能力，尽早恢复功能，返回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训练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，即可在床上进行健肢与患肢运动。情况允许可安装即时假肢或用气囊假肢作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可下地训练。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伤口拆线后，即需进行残肢弹力绷带包扎，消肿塑性，并要进行残肢的拍打，使残肢皮肤增厚，提高残肢耐受力，为安装假肢作好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待伤口完全愈合稳定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经医师认可即可进行永久性假肢装配事宜。截肢后，越早安装假肢，对患者心理和生理上越能适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心理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及家属了解截肢后伤残程度和假肢的选择，截肢后可能发生的并发症，并简要介绍康复训练计划、方法、所需时间和费用。帮助及鼓励患者迅速度过震惊、回避两个阶段，消除悲观、沮丧、自我孤立于社会的态度，正确认识自我价值，重新树立自尊，自信、自强、自立地面对现实，积极投入到功能训练中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护理的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弹性绷带包扎  伤口拆线后，进行持续弹性绷带包扎残端，是预防或减少残肢肿胀及过多的脂肪组织，促进残肢成熟定型的关键步骤。包扎要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小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，大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.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的弹性绷带，长度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先沿残肢长轴方向包绕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然后再尽可能地缠向斜上方绕成螺旋状。大腿残肢应缠绕至骨盆部；小腿残肢应缠绕至大腿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绷带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小时包扎，但每天应换绷带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。应注意残端卫生，每晚用肥皂水清洗后擦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弹性绷带松紧度，残肢末端部缠紧，往上阶梯放松，以不影响残端血液循环为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截肢及截肢后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pu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肢体全部或部分切除，其中经关节的截肢称为关节离断 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sarticUl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ion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Scan10146 (2)"/>
          <p:cNvPicPr/>
          <p:nvPr/>
        </p:nvPicPr>
        <p:blipFill>
          <a:blip r:embed="rId1"/>
          <a:srcRect l="8653" t="10344" r="52253" b="68629"/>
          <a:stretch/>
        </p:blipFill>
        <p:spPr>
          <a:xfrm>
            <a:off x="0" y="1628640"/>
            <a:ext cx="9144000" cy="496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截肢术后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dressing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正常姿势：截肢后，由于肢体失去平衡，往往会引起骨盆倾斜和脊柱侧弯。应通过镜前矫正训练和采用早期装配临时假肢的方法来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残肢训练：小腿截肢者，应增强膝关节屈伸肌肌力训练，保持正常关节活动度。大腿截肢者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主动伸髋练习；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若残肢愈合良好，开始主动内收训练和髋关节的外展肌训练；髋关节离断者，进行腹背肌和髂腰肌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躯干肌训练：以腹背肌训练为主，辅以躯干的回旋、侧向移动和骨盆提举等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Scan10147"/>
          <p:cNvPicPr/>
          <p:nvPr/>
        </p:nvPicPr>
        <p:blipFill>
          <a:blip r:embed="rId1"/>
          <a:srcRect l="16112" t="2772" r="27571" b="67117"/>
          <a:stretch/>
        </p:blipFill>
        <p:spPr>
          <a:xfrm>
            <a:off x="826920" y="1141560"/>
            <a:ext cx="7560000" cy="5716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截肢术后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不良体位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健侧腿的训练：主要为站立训练，下肢截肢后，其残侧的骨盆大多向下倾斜，致使脊柱侧弯，往往初装假肢时总感到假肢侧较长。镜前作站立训练，矫正姿势，并以无支撑的情况下能保持站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为目标。站立位膝关节屈伸运动，目标是至少能连续屈伸膝关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安装假肢前的基本练习</a:t>
            </a:r>
            <a:br>
              <a:rPr sz="3200"/>
            </a:b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断端训练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3" descr="Scan10147"/>
          <p:cNvPicPr/>
          <p:nvPr/>
        </p:nvPicPr>
        <p:blipFill>
          <a:blip r:embed="rId1"/>
          <a:srcRect l="11468" t="33715" r="24280" b="21581"/>
          <a:stretch/>
        </p:blipFill>
        <p:spPr>
          <a:xfrm>
            <a:off x="395280" y="1125360"/>
            <a:ext cx="676908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截肢术后安装临时假肢的方法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传统假肢安装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elayed prosthetic fittin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：采用弹力绷带和适当的训练，使残肢肿胀消退、肌肉萎缩，再进行接受腔的取型和安装假肢。通常穿上假肢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个月内，残肢会发生一定的变化，导致接受腔不合适，需要重新制作接受腔，增加了截肢者的康复费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早期假肢装配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arly postoperative prosthesis, E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开始应用，这是一种在残肢伤口愈合后尽可能早地安装假肢的方法。一般用石膏或热塑性树脂制作接受腔，并在下部选用适当的支撑管及假肢部件制成临时假肢，让截肢者穿上训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即刻假肢装配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(immediate postoperative prosthesis, I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这种方法是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应用于临床的。截肢手术后在手术台上直接为患者制作石膏接受腔并安装临时假肢，让患者术后即穿上临时假肢，早期从床上坐起，以及在护理人员帮助下，或借助步行器、拐杖完成上厕所等步行训练，此种方法也适用于上肢截肢者。此种方法的优点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POP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法相似。其缺点是无菌条件高，术后不便观察，以及因不适应残肢承重而导致创面血液循环障碍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下肢即刻临时假肢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助行器内练习残肢站立负重，磅秤所示承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6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时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次数可增多，同时进行增强上肢肌力的训练。当站立几分钟而能耐受时，可在平行杠内训练站立平衡和试走，在伤口未愈合时负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可正式在平行杠内练习行走，但残肢侧最大承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，患者常已能用拐杖行走，但负重仍不宜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伤口愈合拆线后大约在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石膏接受腔更换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时，进行永久性假肢的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早期临时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穿戴临时假肢方法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站立位平衡训练：一般在平行杠内进行。依次练习双下肢站立，健肢站立平衡，假肢侧站立平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迈步训练：先是假肢侧迈步，过渡到假肢侧站立，健肢迈步。由双手扶杠到单手扶杠，由平行杠内练习过渡到平行杠外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行训练：可用拐杖和步行器辅助，最后到独立步行、转弯、上下楼梯、过障碍物、地面上拾物训练以及跌倒后起立训练等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ⅳ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假肢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歩行前练习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3" descr="Scan10156"/>
          <p:cNvPicPr/>
          <p:nvPr/>
        </p:nvPicPr>
        <p:blipFill>
          <a:blip r:embed="rId1"/>
          <a:srcRect l="6658" t="42448" r="20936" b="21995"/>
          <a:stretch/>
        </p:blipFill>
        <p:spPr>
          <a:xfrm>
            <a:off x="395280" y="934920"/>
            <a:ext cx="828036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正式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肢假肢的使用训练  上肢假肢的使用训练比下肢要复杂和困难得多。基本训练操作先从手部开闭动作开始，练习抓握，在此基础上，变换动作的位置及高度，同时注意肩、肘关节的动作训练。上肢假肢的应用训练是训练截肢者的日常生活动作，如吃饭、更衣、化妆等，让截肢者积极使用假肢，习惯使用假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假肢的使用训练    训练方法基本同临时假肢，主要训练对正式假肢的适应，分析各种异常步态的原因，并加以纠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截肢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主要决定于疾病的需要，通过术中的判断尽可能地保留肢体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可分为肩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（或上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（或前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半骨盆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（或大腿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（或小腿截肢）等。术中需考虑假关节安装长度，应与假肢工程师共同研究制定截肢平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残肢皮肤破溃、窦道、瘢痕、角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修正接受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换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经久不愈的窦道可进行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紫外线、超短波、磁疗等物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使用硅橡胶制成的软袜套，套在残肢上，减少和避免皮肤瘢痕受压或摩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端骨突出、外形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大的骨刺需手术切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严重的圆锥形残端，如果有足够的长度，可将突出的骨端切除，同时行肌肉成形术或肌肉固定术，使之成为圆柱形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残肢关节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原因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患肢长期置于不合适体位，如长时间残肢垫枕或坐轮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术后残肢关节没有合理固定，如小腿截肢，膝关节应固定在伸直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瘢痕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纠正方法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主动或被动关节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牵引、关节松动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重者需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残肢痛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、残端循环障碍、残端骨刺及中枢神经性疼痛等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选用切除神经瘤及骨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痛药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五）幻肢觉和幻肢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生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截肢后仍感觉已截肢体存在的幻觉为患肢觉，一般会逐渐消失。幻肢痛的机制尚不十分清楚，目前大多数人认为幻肢痛是运动觉、知觉、视觉、触觉等的一种心理学、生理学上的异常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幻肢痛的处理方法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，利用催眠、松弛、合理情绪疗法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，可采用超声波治疗、低中频脉冲电疗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枢性镇静剂、三环类抗抑郁药，一般疼痛可用阿米替林、丙咪嗪、卡马西平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灸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其他，如尽早穿戴假肢、运动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康复是由多个专业以治疗组的形式工作。其成员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科医生和康复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师，包括物理治疗师、作业治疗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假肢工程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工作者和职业咨询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个康复程序由康复治疗组来完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设计截肢手术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咨询及假肢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残端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临时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正式假肢（试样、初检、调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穿戴正式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前培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回归家庭和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功能缺失 由于肢体的丧失，与肢体相应的功能也随之缺失。如上肢各种日常活动能力、下肢的站立、行走能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肿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疼痛和幻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畸形 常见的有上臂截肢后肩关节内收，前臂截肢后肘关节屈曲，大腿截肢后髋关节屈曲外展，小腿截肢后膝关节屈曲，前足截肢后马蹄内翻挛缩畸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端肌萎缩  由于截肢后残肢的重量、运动减少使残肢部位的肌肉出现废用性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限 截肢后，患者的进食、个人卫生、穿衣、使用厕所、行走等方面的能力受限，使其在日常生活中对他人的依赖性增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截肢对患者是一种巨大打击，患者表现出悲观、沮丧、自我孤立于社会的态度，在家庭、婚姻、工作、生活等问题上忧心忡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问题 截肢使得患者从事原工作的能力减弱或已完全不能从事原有的工作，患者面临着康复后又要重新择业的困难和一系列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全身状况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是判断患者能否装配假肢，能否承受装配假肢后的功能训练，是否患有其他系统的疾病，以及其他肢体的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假肢的患者行走比正常人行走消耗更多的能量，因而对心脏病患者应慎重。闭塞性脉管炎截肢患者，若对侧肢体有间歇性跛行，则使用假肢会加剧肢体的供血不足。截肢者如有脑血管病所致的器质性脑病，导致记忆和学习能力减退，将会影响假肢的使用。视觉反馈对于补偿截肢肢体的感觉很重要，若视觉障碍程度已达到看不清自己足的位置时，将导致使用假肢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肤情况 检若皮肤条件不好，应积极治疗，否则不宜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的形状 圆柱形残端可减少由残端的血液循环差所导致的一系列并发症，因此更适合现代全接触式接受腔假肢的穿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无残端畸形 对膝上截肢者主要评定有无髋关节屈曲、外展畸形；膝下截肢者有无膝关节屈曲畸形等。如果残肢关节畸形明显，不宜安装假肢。即使勉强安装，也会影响假肢穿戴及其功能。若假肢负重力线不良或假肢接受腔不合适，可造成患者步态异常，不能正常行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5T09:33:05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